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DCB-4942-4306-9E63-F168D298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67DE-841E-4479-908E-130A96CF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F34-93E5-481A-BAB4-093ECC4C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ED9-2667-433B-BF42-465610BB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4524-AE31-4F3A-8D5F-55F92FB3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4FE7-AF19-43F5-BCE6-90D3895E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8F09-7FDF-4410-AA97-44ED7A64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A714-AD37-4D48-8D5F-1D012CF2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4D68-4333-4506-8716-02A13C97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18A9-986B-4173-8750-513E289B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4504-1C62-43A9-A797-556C9502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C6B1-0026-405A-8537-5427EA13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0D16-5E2E-4D6B-A553-F1D526F7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B7F7-ABE1-4CDF-9698-29FACAD9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1993-DD65-4B47-A41B-98AB3931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FF81-D096-4A3C-AEB7-9B3E6424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B1E9-8E30-4F9D-B77F-6AD343D1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7FDF7-1968-4977-859D-BD603D73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FE21-F312-4B4C-BAA8-DF0D4BCE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44E0E-BE14-41A1-B8F7-F052571A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8F2C-5D2C-4A7B-9050-01DCB777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88C2-9B0A-4494-8650-FC38D11E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E641-EA3B-4063-844B-5C940716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67FC-C014-40C1-9148-3708D483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A503-C201-41F6-B6BF-72FA1803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9ADE-92F8-4AB3-A848-F399CA6F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ED749-6CFC-412B-A4A3-37785ECD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DE31C-6345-4C4F-92E9-A7DE7603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FA37-A2D0-4AF4-9F14-FDD2F478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3C3F-D8F5-40DC-B490-E5759061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DCE6C-13D9-4286-9FE9-CAB9F255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3E7AC-65E6-4AB0-8731-95F31D05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89B2-A6BB-42A8-896F-B8F7BBB3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B6A-D788-4F97-BC76-907882F3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9A587-C93B-409C-B5FC-CA211BA2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8A6C-5541-474D-9143-5A667859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BD429-49D2-420B-BB22-7EA16594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7DFE-3DC8-4A09-A7BA-081F0956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3B1C-D1C2-4ABE-8625-B7655B5D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7AA9C-CE15-4D18-B066-70CB06B2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999EA-01CA-4C07-8B24-75038D04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EDD91-B2FE-4BF5-B3DA-D821199D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2F71E-7A8C-40C7-AC40-5BB3B5BE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2F9C5-5428-4629-BEFC-6811773D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DB8-1DB0-4EC8-9B1B-815E39BB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1F42F-C48D-40C6-BF6F-C8FFC92A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2A449-2208-4E8B-8048-38715416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D8E5B-5128-4F37-B6EE-A4155693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0D2C7-453F-480B-AE31-E678CE2E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62EA7-B27B-4B78-BC71-D0DD1811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14A66-7D2E-4617-B5B0-69B51A3E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CE67E-69DC-42B8-BD7E-2B4FE87F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FFF6D-121C-4643-B4A3-3C92DCAC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A3DCE-D928-4294-B787-DFABE5C6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5BE1C-31E5-4CF3-87CC-0EAD70FF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67E6-BC4E-4BB0-8044-39DA2CE0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46E3A-A237-45F3-8163-8B534896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BEC9A-5678-4083-9706-C3574C54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01607-DA77-4240-8CDC-4432737D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59DFB-D6EE-486E-8EA0-86F1117B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73702-489E-4BEE-83E3-03DD4B96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2CD7-B940-4756-A38B-F26A03D1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AA41D-E566-4DA3-B24C-8BC61AFB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D85C6-0BBA-45FF-B67F-7543BB79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1F700-5E9A-45C6-9E2C-B833FC67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90125-76BE-4E7F-BB9C-F1126241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038-F518-4BFC-B543-1BC6168D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CEE7F-E86F-42ED-939D-16A6B292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0DFD1-DA96-4426-8669-F8A6EF51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33939-AC6D-456B-A79D-7187310E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07990-C373-4271-95AA-D838939B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99F0F-AA7C-4E91-8B00-74215666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A32FD-9FA6-4316-BB4E-3FC97358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F19F8-158C-497A-B3F8-971F03E7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9172A-D380-49AA-863C-467100F6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A0D86-A63D-482F-82DF-603386BB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11D20-18F0-4F31-B3FD-BB125C6C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2BB-3BFB-4FD6-8045-F2233D4B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F830A-50A6-489D-AD33-120083A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6F3BA-F19B-497C-82D9-F30B5EC4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6FEBB-A382-4C0E-A436-0132E83C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13551-5694-452C-9542-065C3EB3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F97FD-A225-453A-BAA6-CF4C56DB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D12-651E-4C6F-A34D-F861C1F3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225C-CD6C-403B-86B8-2807038B50D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8D0F-E6BD-4130-B0B6-271A6C9916F3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00DC-674C-4EFA-88E8-F3C2E06D714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c5d1d7">
                  <a:alpha val="1176"/>
                </a:srgbClr>
              </a:gs>
              <a:gs pos="100000">
                <a:srgbClr val="c5d1d7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02810"/>
              </a:gs>
              <a:gs pos="100000">
                <a:srgbClr val="ff8f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2c5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abecd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2FE6-AD99-4B9C-BBC7-C741178BD005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86C7-96A5-415E-B8B0-0EAF441184C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426f"/>
            </a:gs>
            <a:gs pos="100000">
              <a:srgbClr val="6b7b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C8A1-60F0-4331-8305-EAFE3B8D823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07f6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07f6d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1634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e9e95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02A2-E04A-4F09-9055-2C41069C4EFD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13780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378000" y="3273480"/>
            <a:ext cx="8070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Group 1 with Rachel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Kalib, Ethan, Tyler, Christina, Kevi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Group 2 with Dan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Jenn, Megan, Lauren, Johnn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Group 3 with Kait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Meng, Cheyanne, M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can MCL work for you in your classroom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rainstorm a hypothetical unit you could do with your class based upon your content (integrate content areas if needed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pare a way to share your idea (any format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68544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65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What do you know about MCL?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65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65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What do you want to know?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6840" y="188280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tandard-based Educ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dividualized Learn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Atmospher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No Grade Level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No ABC Grad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No Report Card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6" name="Picture 7" descr="http://maine121.org/wp-content/uploads/2012/06/Inevitable-cover.jpg"/>
          <p:cNvPicPr/>
          <p:nvPr/>
        </p:nvPicPr>
        <p:blipFill>
          <a:blip r:embed="rId2"/>
          <a:stretch/>
        </p:blipFill>
        <p:spPr>
          <a:xfrm>
            <a:off x="6477120" y="2590920"/>
            <a:ext cx="2147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The Shif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Industrial Age v. Digital Ag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5" descr="http://techpinions.com/wp-content/uploads/2012/12/assembly-line-women.jpg"/>
          <p:cNvPicPr/>
          <p:nvPr/>
        </p:nvPicPr>
        <p:blipFill>
          <a:blip r:embed="rId2"/>
          <a:stretch/>
        </p:blipFill>
        <p:spPr>
          <a:xfrm>
            <a:off x="6095880" y="1371600"/>
            <a:ext cx="2438640" cy="1989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310" name="Picture 7" descr="http://www.mapsalive.com/Public/Images/iPhoneiAndiPad.jpg"/>
          <p:cNvPicPr/>
          <p:nvPr/>
        </p:nvPicPr>
        <p:blipFill>
          <a:blip r:embed="rId3"/>
          <a:stretch/>
        </p:blipFill>
        <p:spPr>
          <a:xfrm>
            <a:off x="5943600" y="4114800"/>
            <a:ext cx="2868480" cy="2057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6840" y="188280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Matrix Pap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sts expectations/standard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udent pace and teacher pac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d16349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n look different from school to schoo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egative Aspect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3" name="Picture 2" descr="http://www.dixfield.org/assets/kelly_ms.jpg"/>
          <p:cNvPicPr/>
          <p:nvPr/>
        </p:nvPicPr>
        <p:blipFill>
          <a:blip r:embed="rId2"/>
          <a:stretch/>
        </p:blipFill>
        <p:spPr>
          <a:xfrm>
            <a:off x="5791320" y="3029040"/>
            <a:ext cx="3200400" cy="240012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6400800" y="5562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.W. Kelly Dirigo Middle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217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Idealists: Yes and N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Learning within the individual: Y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Choice in Learning: Y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Great Works: No   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Student-Centered: N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Realism: N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 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Teacher as learning coach and facilitator; not as direct instruct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Individual and student bas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-HOWEVER: Both agree on concept of critical thinking for studen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Pragmaticism: Y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Learner/Student-Center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Teacher as a facilitato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Question and Independent Thinke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Existentialists: Yes and N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Personal Choice for Students: Y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Move away from numerical grading system: Y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Knowledge of Content vs. Meaning of Self: N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hift from teacher to facilitator (learning coach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lationship with studen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hanges the way we prepare for a semest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ganization, Quick Access, Jugg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nsure students are familiar with the standard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hift away from numerical grades, grade level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ccess for students and paren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151920" y="19810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Pro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Focuses on Learn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Being a Facilitat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Proficiency Based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d1634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Con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Fund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Promoting Isol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Inflexible for Facilitat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2" descr="http://americanradioworks.publicradio.org/features/personalized-learning/images/mooresville06.jpg"/>
          <p:cNvPicPr/>
          <p:nvPr/>
        </p:nvPicPr>
        <p:blipFill>
          <a:blip r:embed="rId2"/>
          <a:stretch/>
        </p:blipFill>
        <p:spPr>
          <a:xfrm>
            <a:off x="5407200" y="1670040"/>
            <a:ext cx="3060360" cy="224316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4"/>
          <p:cNvSpPr/>
          <p:nvPr/>
        </p:nvSpPr>
        <p:spPr>
          <a:xfrm>
            <a:off x="155520" y="-1531800"/>
            <a:ext cx="4762440" cy="31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155520" y="-1531800"/>
            <a:ext cx="4762440" cy="31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8" descr="http://www.bbps.school.nz/images/computers.jpg"/>
          <p:cNvPicPr/>
          <p:nvPr/>
        </p:nvPicPr>
        <p:blipFill>
          <a:blip r:embed="rId3"/>
          <a:stretch/>
        </p:blipFill>
        <p:spPr>
          <a:xfrm>
            <a:off x="6172200" y="4495680"/>
            <a:ext cx="2602080" cy="1743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1:27:59Z</dcterms:created>
  <dc:creator>Rachel Joiner</dc:creator>
  <dc:description/>
  <dc:language>en-US</dc:language>
  <cp:lastModifiedBy>Rachel Joiner</cp:lastModifiedBy>
  <dcterms:modified xsi:type="dcterms:W3CDTF">2013-11-12T03:16:39Z</dcterms:modified>
  <cp:revision>5</cp:revision>
  <dc:subject/>
  <dc:title>Mass Customized Learning</dc:title>
</cp:coreProperties>
</file>